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8D0-CBDC-4958-A2F3-6DB00441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CBC-EB8E-4A54-969B-7C566A56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3EE-8935-4E05-A348-5A8A7258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9AF-29B2-455E-A103-F5EFE744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3EA1-902F-4B85-8674-02402F93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25E3-7DF7-4DC6-8030-6F9F2F43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2CB7-3930-4DF2-80D5-35D00F0D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C0FA-4D3F-419C-9D75-A817C49B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92C1-93AD-4956-98F5-A27372F0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71B3-4AFB-4ED7-A5B5-403D84F9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E5A8-2A10-4EDC-8332-982197C0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468-2324-4CE5-B983-86578FE4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0E7F-F120-4D6E-917E-299DFC9C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203C-4175-41CB-99B3-4380B1FE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8E6B-6C28-444E-ADDF-EDAAEA22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4E68-FF7A-49C0-8CE6-3836F203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E536-BA2C-44C8-8E66-95941DCB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EC7-3B07-4A2B-8381-661E69B4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83C-3FAF-461F-84BE-8F30332B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1B8-B457-4B31-B619-91FC9FFF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01B-7F8D-4E37-B5A6-DAF2EDFC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C1D-94B5-40A9-9A99-BE63BA16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1D9-94EB-4F94-8AFD-756A4185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525-4358-4C68-9C1F-A9E43EC4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2D35-5DA1-434D-B205-7EE6737514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7173-F7F1-4507-872F-C68C668E49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19098" t="54829" r="55119" b="29481"/>
          <a:stretch/>
        </p:blipFill>
        <p:spPr>
          <a:xfrm>
            <a:off x="0" y="1676520"/>
            <a:ext cx="3657600" cy="2881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*In the Text*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ght The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114300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and Sear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5720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nswers are easy to find right in the tex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rcRect l="20708" t="84294" r="56729" b="3263"/>
          <a:stretch/>
        </p:blipFill>
        <p:spPr>
          <a:xfrm>
            <a:off x="5105520" y="1752480"/>
            <a:ext cx="4038480" cy="2884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67080" y="472428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nswers are in the text but found in more than one place so it has to be put toge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Smart 7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57200"/>
            <a:ext cx="4724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rk or write your answ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432756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r write your answ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5105520"/>
            <a:ext cx="1143000" cy="50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rt 7 sounds great but it takes too long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P time modification (up to double tim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ced students can skip to step 5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tually it should be more internalized and they won’t need the step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What if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ssages with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raph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re than One Passag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ts of Dialo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ing text boo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605720" y="0"/>
            <a:ext cx="1538280" cy="1825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Common Ground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I change it to meet my students need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I use it differently than other teachers in my building do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important is a whole school buy in of th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59739" t="56035" r="18378" b="29486"/>
          <a:stretch/>
        </p:blipFill>
        <p:spPr>
          <a:xfrm>
            <a:off x="304920" y="1219320"/>
            <a:ext cx="3276360" cy="280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 My 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 and 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60948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My 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0384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answer is not in the text. You have to use what you know and what the author has written to come up with an answer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rcRect l="0" t="2473" r="6419" b="0"/>
          <a:stretch/>
        </p:blipFill>
        <p:spPr>
          <a:xfrm>
            <a:off x="6095880" y="1143000"/>
            <a:ext cx="2362320" cy="3009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24280" y="419112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answer is not in the text. You use your own experiences to answer the question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75360"/>
            <a:ext cx="9144000" cy="78264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465880"/>
            <a:ext cx="9144000" cy="609480"/>
          </a:xfrm>
          <a:prstGeom prst="rect">
            <a:avLst/>
          </a:prstGeom>
          <a:solidFill>
            <a:srgbClr val="5f0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27440"/>
            <a:ext cx="9144000" cy="8384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65680"/>
            <a:ext cx="9144000" cy="761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79880"/>
            <a:ext cx="91440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417760"/>
            <a:ext cx="9144000" cy="762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046160"/>
            <a:ext cx="9144000" cy="1371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Smart 7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1322280"/>
            <a:ext cx="47242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d and box in the title.                                           Trace and number the paragraphs.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d every paragraph and                              STOP and THIN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d every paragraph and                          highlight key word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d and highlight the key words                     in each question.                         (Question)</a:t>
            </a:r>
            <a:r>
              <a:rPr b="1" lang="en-US" sz="1600" spc="-1" strike="noStrike">
                <a:solidFill>
                  <a:srgbClr val="2b5481"/>
                </a:solidFill>
                <a:latin typeface="Arial"/>
              </a:rPr>
              <a:t>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2b54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2b54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481"/>
                </a:solidFill>
                <a:latin typeface="Arial"/>
              </a:rPr>
              <a:t>Read each answer and put X ? </a:t>
            </a:r>
            <a:r>
              <a:rPr b="1" lang="en-US" sz="1600" spc="-1" strike="noStrike">
                <a:solidFill>
                  <a:srgbClr val="2b5481"/>
                </a:solidFill>
                <a:latin typeface="Wingdings"/>
                <a:ea typeface="Wingdings"/>
              </a:rPr>
              <a:t></a:t>
            </a:r>
            <a:r>
              <a:rPr b="1" lang="en-US" sz="1600" spc="-1" strike="noStrike">
                <a:solidFill>
                  <a:srgbClr val="2b5481"/>
                </a:solidFill>
                <a:latin typeface="Arial"/>
              </a:rPr>
              <a:t>                  beside each choice.                       (Answer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2b54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2b54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481"/>
                </a:solidFill>
                <a:latin typeface="Arial"/>
              </a:rPr>
              <a:t>Prove the answer. Locate the paragraph      where the answer is found.    (Relationshi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2b54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2b54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481"/>
                </a:solidFill>
                <a:latin typeface="Arial"/>
              </a:rPr>
              <a:t>Mark or write your answ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2b54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800600" y="1311120"/>
            <a:ext cx="4572000" cy="5934600"/>
            <a:chOff x="4800600" y="1311120"/>
            <a:chExt cx="4572000" cy="5934600"/>
          </a:xfrm>
        </p:grpSpPr>
        <p:sp>
          <p:nvSpPr>
            <p:cNvPr id="105" name=""/>
            <p:cNvSpPr/>
            <p:nvPr/>
          </p:nvSpPr>
          <p:spPr>
            <a:xfrm>
              <a:off x="4800600" y="1311120"/>
              <a:ext cx="4572000" cy="59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               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      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ry paragraph and S&amp;T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ry paragraph and highlight key words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nd highlight the key words                     in each ?</a:t>
              </a:r>
              <a:r>
                <a:rPr b="1" lang="en-US" sz="1600" spc="-1" strike="noStrike">
                  <a:solidFill>
                    <a:srgbClr val="2b5481"/>
                  </a:solidFill>
                  <a:latin typeface="Arial"/>
                </a:rPr>
                <a:t>                                              (Q) 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5481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2b5481"/>
                  </a:solidFill>
                  <a:latin typeface="Arial"/>
                </a:rPr>
                <a:t>each answer and X ? </a:t>
              </a:r>
              <a:r>
                <a:rPr b="1" lang="en-US" sz="1600" spc="-1" strike="noStrike">
                  <a:solidFill>
                    <a:srgbClr val="2b5481"/>
                  </a:solidFill>
                  <a:latin typeface="Wingdings"/>
                  <a:ea typeface="Wingdings"/>
                </a:rPr>
                <a:t></a:t>
              </a:r>
              <a:r>
                <a:rPr b="1" lang="en-US" sz="1600" spc="-1" strike="noStrike">
                  <a:solidFill>
                    <a:srgbClr val="2b5481"/>
                  </a:solidFill>
                  <a:latin typeface="Arial"/>
                </a:rPr>
                <a:t>.               (A)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5481"/>
                  </a:solidFill>
                  <a:latin typeface="Arial"/>
                </a:rPr>
                <a:t>Prove the answer.    P#                        (R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5481"/>
                  </a:solidFill>
                  <a:latin typeface="Arial"/>
                </a:rPr>
                <a:t>       </a:t>
              </a:r>
              <a:r>
                <a:rPr b="1" lang="en-US" sz="1600" spc="-1" strike="noStrike">
                  <a:solidFill>
                    <a:srgbClr val="2b5481"/>
                  </a:solidFill>
                  <a:latin typeface="Arial"/>
                </a:rPr>
                <a:t>or write your answ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38240" y="1351080"/>
              <a:ext cx="1533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itle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85760" y="1828800"/>
              <a:ext cx="143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ragraph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1480" y="1357200"/>
              <a:ext cx="12193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93960" y="1662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97440" y="196704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97440" y="173844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97440" y="17384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97440" y="22716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7440" y="20430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97440" y="2043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81480" y="2494080"/>
              <a:ext cx="152280" cy="304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10080" y="2494080"/>
              <a:ext cx="152280" cy="304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57800" y="2644920"/>
              <a:ext cx="75960" cy="15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2644920"/>
              <a:ext cx="75960" cy="15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3255840"/>
              <a:ext cx="15228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0080" y="3255840"/>
              <a:ext cx="15228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57800" y="3408480"/>
              <a:ext cx="7596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86400" y="3408480"/>
              <a:ext cx="7596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3941640"/>
              <a:ext cx="15228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10080" y="3941640"/>
              <a:ext cx="15228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57800" y="4095720"/>
              <a:ext cx="759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095720"/>
              <a:ext cx="759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4703760"/>
              <a:ext cx="152280" cy="304920"/>
            </a:xfrm>
            <a:prstGeom prst="ellipse">
              <a:avLst/>
            </a:prstGeom>
            <a:noFill/>
            <a:ln w="9360">
              <a:solidFill>
                <a:srgbClr val="2b5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0080" y="4703760"/>
              <a:ext cx="152280" cy="304920"/>
            </a:xfrm>
            <a:prstGeom prst="ellipse">
              <a:avLst/>
            </a:prstGeom>
            <a:noFill/>
            <a:ln w="9360">
              <a:solidFill>
                <a:srgbClr val="2b5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4856040"/>
              <a:ext cx="75960" cy="152640"/>
            </a:xfrm>
            <a:prstGeom prst="ellipse">
              <a:avLst/>
            </a:prstGeom>
            <a:solidFill>
              <a:srgbClr val="2b5481"/>
            </a:solidFill>
            <a:ln w="9360">
              <a:solidFill>
                <a:srgbClr val="2b5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86400" y="4856040"/>
              <a:ext cx="75960" cy="152640"/>
            </a:xfrm>
            <a:prstGeom prst="ellipse">
              <a:avLst/>
            </a:prstGeom>
            <a:solidFill>
              <a:srgbClr val="2b5481"/>
            </a:solidFill>
            <a:ln w="9360">
              <a:solidFill>
                <a:srgbClr val="2b5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1480" y="6351480"/>
              <a:ext cx="380880" cy="76320"/>
            </a:xfrm>
            <a:prstGeom prst="ellipse">
              <a:avLst/>
            </a:prstGeom>
            <a:solidFill>
              <a:srgbClr val="2b5481"/>
            </a:solidFill>
            <a:ln w="9360">
              <a:solidFill>
                <a:srgbClr val="2b5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Smart 7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47920"/>
            <a:ext cx="457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 and box in the title.                                           Trace and number the paragraphs.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191120" y="4468680"/>
            <a:ext cx="5039280" cy="4360320"/>
            <a:chOff x="4191120" y="4468680"/>
            <a:chExt cx="5039280" cy="4360320"/>
          </a:xfrm>
        </p:grpSpPr>
        <p:sp>
          <p:nvSpPr>
            <p:cNvPr id="137" name=""/>
            <p:cNvSpPr/>
            <p:nvPr/>
          </p:nvSpPr>
          <p:spPr>
            <a:xfrm>
              <a:off x="4191120" y="4468680"/>
              <a:ext cx="4571640" cy="43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                   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59320" y="5442120"/>
              <a:ext cx="297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Paragraph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84120" y="5165640"/>
              <a:ext cx="746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486040" y="5241960"/>
              <a:ext cx="761400" cy="1066320"/>
              <a:chOff x="5486040" y="5241960"/>
              <a:chExt cx="761400" cy="1066320"/>
            </a:xfrm>
          </p:grpSpPr>
          <p:sp>
            <p:nvSpPr>
              <p:cNvPr id="141" name=""/>
              <p:cNvSpPr/>
              <p:nvPr/>
            </p:nvSpPr>
            <p:spPr>
              <a:xfrm>
                <a:off x="5486040" y="5699160"/>
                <a:ext cx="76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6040" y="5241960"/>
                <a:ext cx="76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86040" y="52419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86040" y="5851080"/>
                <a:ext cx="76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486040" y="58510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486040" y="6308280"/>
                <a:ext cx="76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105160" y="4479840"/>
              <a:ext cx="2666520" cy="609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Smart 7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990720"/>
            <a:ext cx="4724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 every paragraph and                              STOP and THINK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1387440"/>
            <a:ext cx="52578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ery paragraph and S&amp;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800600" y="3505320"/>
            <a:ext cx="1141920" cy="933840"/>
            <a:chOff x="4800600" y="3505320"/>
            <a:chExt cx="1141920" cy="933840"/>
          </a:xfrm>
        </p:grpSpPr>
        <p:sp>
          <p:nvSpPr>
            <p:cNvPr id="153" name=""/>
            <p:cNvSpPr/>
            <p:nvPr/>
          </p:nvSpPr>
          <p:spPr>
            <a:xfrm>
              <a:off x="4800600" y="3505320"/>
              <a:ext cx="456480" cy="933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86040" y="3505320"/>
              <a:ext cx="456480" cy="933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3967920"/>
              <a:ext cx="227520" cy="47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5000" y="3967920"/>
              <a:ext cx="227520" cy="47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Smart 7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09480"/>
            <a:ext cx="4724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 every paragraph and                          highlight key wor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10824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ery paragraph and highlight key wor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34120" y="3505320"/>
            <a:ext cx="1141920" cy="933840"/>
            <a:chOff x="5334120" y="3505320"/>
            <a:chExt cx="1141920" cy="933840"/>
          </a:xfrm>
        </p:grpSpPr>
        <p:sp>
          <p:nvSpPr>
            <p:cNvPr id="162" name=""/>
            <p:cNvSpPr/>
            <p:nvPr/>
          </p:nvSpPr>
          <p:spPr>
            <a:xfrm>
              <a:off x="5334120" y="3505320"/>
              <a:ext cx="456480" cy="933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19560" y="3505320"/>
              <a:ext cx="456480" cy="933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2720" y="3967920"/>
              <a:ext cx="227520" cy="47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3967920"/>
              <a:ext cx="227520" cy="47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Smart 7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"/>
            <a:ext cx="4724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 and highlight the key words                     in each question.                         (Question)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95596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highlight the key words in each ?                   (Q)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181480" y="3276720"/>
            <a:ext cx="1141920" cy="933840"/>
            <a:chOff x="5181480" y="3276720"/>
            <a:chExt cx="1141920" cy="933840"/>
          </a:xfrm>
        </p:grpSpPr>
        <p:sp>
          <p:nvSpPr>
            <p:cNvPr id="171" name=""/>
            <p:cNvSpPr/>
            <p:nvPr/>
          </p:nvSpPr>
          <p:spPr>
            <a:xfrm>
              <a:off x="5181480" y="3276720"/>
              <a:ext cx="456480" cy="933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66920" y="3276720"/>
              <a:ext cx="456480" cy="933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3739320"/>
              <a:ext cx="227520" cy="47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5880" y="3739320"/>
              <a:ext cx="227520" cy="47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Smart 7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41360"/>
            <a:ext cx="5715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ad each answer and put X ?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beside each choice.                       (Answer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3718080"/>
            <a:ext cx="5334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ch answer and   X ?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.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A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419720" y="4114800"/>
            <a:ext cx="1141920" cy="933840"/>
            <a:chOff x="4419720" y="4114800"/>
            <a:chExt cx="1141920" cy="933840"/>
          </a:xfrm>
        </p:grpSpPr>
        <p:sp>
          <p:nvSpPr>
            <p:cNvPr id="180" name=""/>
            <p:cNvSpPr/>
            <p:nvPr/>
          </p:nvSpPr>
          <p:spPr>
            <a:xfrm>
              <a:off x="4419720" y="4114800"/>
              <a:ext cx="456480" cy="9338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05160" y="4114800"/>
              <a:ext cx="456480" cy="9338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48320" y="4577400"/>
              <a:ext cx="227520" cy="47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4120" y="4577400"/>
              <a:ext cx="227520" cy="47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0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Smart 7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04920"/>
            <a:ext cx="5638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ve the answer. Locate the paragraph where the answer is found.    (Relationshi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4191120"/>
            <a:ext cx="4800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ve the answer.    P#                        (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ve It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47:36Z</dcterms:created>
  <dc:creator>kcarney</dc:creator>
  <dc:description/>
  <dc:language>en-US</dc:language>
  <cp:lastModifiedBy>critzius</cp:lastModifiedBy>
  <dcterms:modified xsi:type="dcterms:W3CDTF">2010-04-15T18:00:02Z</dcterms:modified>
  <cp:revision>3</cp:revision>
  <dc:subject/>
  <dc:title>Slide 1</dc:title>
</cp:coreProperties>
</file>